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7B0-9FC2-4237-895E-1B8CED8C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894-3A9D-4422-BB80-FB87C825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7D5-F512-407D-ABAE-324DA1C6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340-381E-4207-8219-D6C6FFBA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2E07-71B6-4B92-93BA-7C1B399E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0394-723B-40BF-B821-D746D72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DE59-81D7-4FE3-9F74-D949C7EC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79D4-59F4-4ABE-B211-94670188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BC67-3183-4E78-8063-0B5A3D27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1BC3-88ED-4C62-B228-BBC54244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32B6-0313-4F5D-B314-E30B8CDD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A09-0028-4BCE-98D5-4D07DEBB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3F98-B9C1-4D56-B129-0938A68B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B4C6-D783-4FE1-9EDF-F8D2E4F0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DAC6-9674-4975-B3FE-3F2DE159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5E6A-5DD7-474E-98EB-A08F49BB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C4FF-FE69-48A5-BF98-E8F33843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9B9-405F-4935-A1D2-26FB7EA2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44F-DA6A-4F9C-B56A-DAC7BC7B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AE4-719E-4B56-ACF5-6F6C2537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547-2B33-4C98-BFC4-09285741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64C-2902-482F-BC42-155A4956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FBE-AB94-44B9-AE1C-4DC11CDF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5AB-CFDB-402E-AB9D-48B6C84F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56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5663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56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56636"/>
                        </a:solidFill>
                        <a:ln w="9360">
                          <a:solidFill>
                            <a:srgbClr val="55663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566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F092-22E1-455C-8539-FB23D356A2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99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9d4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56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5663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56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56636"/>
                        </a:solidFill>
                        <a:ln w="9360">
                          <a:solidFill>
                            <a:srgbClr val="55663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836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32400" y="292284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81480" y="240084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6720" y="21164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566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7240"/>
              <a:ext cx="5254200" cy="4694040"/>
              <a:chOff x="1800" y="2127240"/>
              <a:chExt cx="5254200" cy="46940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60280" y="2127240"/>
                <a:ext cx="495720" cy="490680"/>
                <a:chOff x="4760280" y="2127240"/>
                <a:chExt cx="495720" cy="4906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6480" y="2350440"/>
                  <a:ext cx="31428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72600" y="2249280"/>
                  <a:ext cx="25632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6840" y="22381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20200" y="2134800"/>
                  <a:ext cx="228960" cy="21996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6360" y="2127240"/>
                  <a:ext cx="8964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99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9d4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C15A-6434-4055-865E-36725EE2AC45}" type="slidenum"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zenaide.darossi@univali.br" TargetMode="External"/><Relationship Id="rId2" Type="http://schemas.openxmlformats.org/officeDocument/2006/relationships/hyperlink" Target="http://www.univali.br/" TargetMode="External"/><Relationship Id="rId3" Type="http://schemas.openxmlformats.org/officeDocument/2006/relationships/hyperlink" Target="http://www.microsoft.com/brasil/educacao/parceiro/acessibilidade.mspx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300"/>
            </a:br>
            <a:endParaRPr b="0" lang="en-US" sz="63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28760" y="2000160"/>
            <a:ext cx="814392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Acessibilidade: o uso de computadores por alunos com necessidades educacionais especiais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cc"/>
                </a:solidFill>
                <a:uFillTx/>
                <a:latin typeface="Verdana"/>
              </a:rPr>
              <a:t>Dicas para a Solução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EXERCÍCIO 01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Como ligar o computador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É difícil ou impossível pressionar o botão liga/desliga de alguns computadores usando um palito de comida japonesa e alguns notebooks possuem uma tela que não pode ser aberta com uma só mão ou com um palito. Essas questões devem ser verificadas ao se comprar um computador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Como abrir o Word sem usar o mouse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Pressione a tecla com o logotipo do Windows para abrir o menu Iniciar e selecione Word usando as teclas de seta; em seguida, pressione Enter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142560"/>
            <a:ext cx="822960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mo digitar as letras E e P maiúsculas no texto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Selecione Opções de Acessibilidade no Painel de Controle. Acione o recurso de Teclas de aderência para que a tecla Shift fique travada temporariamente. Quando o atalho de teclado para as Teclas de aderência estiver configurado como Disponível, o recurso de Teclas de aderência pode ser acionando pressionando a tecla Shift cinco vezes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Outra opção é clicar na tecla de fixação (caps look) para manter todas as letras em maiúsculo e depois desativá-la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mo salvar o documento sem usar o mouse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cesse o menu Arquivo pressionando Alt e F. Quando o recurso de Teclas de aderência estiver acionado, o usuário pode pressionar as teclas uma a uma. Todos os títulos de menu no Word são exibidos juntamente com um caractere na caixa, tal como [S] Salvar, [A] Abrir e [I] Imprimir, quando acessados usando o teclado. Isso significa que o menu pode ser acessado pressionando a tecla daquele caractere. O usuário também pode usar as teclas de seta para passar para o menu e pressionar Enter para selecionar um deles. Por outro lado, o menu Salvar pode ser selecionado diretamente pelo atalho de teclado Ctrl + B. O usuário pode pressionar as teclas, uma a uma, quando o recurso de Teclas de aderência estiver acionado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EXERCÍCIO 02: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Navegar na Internet colocando a tela cerca de 1,5m de distância ou sem usar óculos ou lentes de contato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Barreiras a serem superada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aumentar o texto e ajustar o contraste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encontrar facilmente o ponteiro e o cursor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usar o Internet Explorer usando o teclado e o mouse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EXERCÍCIO 02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mo aumentar o texto e ajustar o contraste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juste o tamanho de fonte e o contraste na opção Otimizar Tela, que pode ser acessada em Opções de Acessibilidade no Painel de controle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mo encontrar facilmente o ponteiro e o cursor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a opção Hardware e Sons do Painel de Controle, o tipo de ponteiro pode ser alterado em Mouse e a taxa de intermitência do cursor pode ser personalizada em Teclado para que seja mais fácil encontrar o ponteiro e o cursor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mo usar o Internet Explorer usando o teclado e o mouse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pontar para um pequeno botão ou menu é um trabalho estressante para pessoas com baixa visão. Os atalhos de teclado podem diminuir essa dificuldade de navegação no computador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cc"/>
                </a:solidFill>
                <a:uFillTx/>
                <a:latin typeface="Verdana"/>
              </a:rPr>
              <a:t>ETAPA 1. ACESSAR O ITEM ACESSIBILIDADE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Após verificar quais são as necessidades dos seus alunos e sentir na pele como é difícil superar esses obstáculos, o próximo passo é personalizar o Windows a fim de facilitar o uso do computador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PT" sz="2400" spc="-1" strike="noStrike">
                <a:solidFill>
                  <a:srgbClr val="ffffcc"/>
                </a:solidFill>
                <a:latin typeface="Verdana"/>
              </a:rPr>
              <a:t>Siga os passos: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1.1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Clique no Menu Iniciar e aponte para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e escolha a opção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Painel de Controle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  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1.2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Na janela do Painel de Controle, escolha o item: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Opções de Acessibilidade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cc"/>
                </a:solidFill>
                <a:uFillTx/>
                <a:latin typeface="Verdana"/>
              </a:rPr>
              <a:t>ETAPA 2. OPÇÕES DA GUIA TECLADO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Alguns alunos com paralisia digitam no teclado deslizando seus braços. Outros com lesões musculares ou movimentos involuntários freqüentemente tocam no teclado acidentalmente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i="1" lang="pt-BR" sz="2400" spc="-1" strike="noStrike">
                <a:solidFill>
                  <a:srgbClr val="ffffcc"/>
                </a:solidFill>
                <a:latin typeface="Verdana"/>
              </a:rPr>
              <a:t>Teclas de aderência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É um recurso que trava as teclas de combinação como Shift, Ctrl, Alt... Ative essa opção e o usuário poderá pressionar uma tecla de cada vez. Por exemplo, para digitar a letra maiúscula A, em vez de pressionar Shift e A ao mesmo tempo, o usuário pressiona e libera a tecla Shift e depois pressiona A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Teclas de filtragem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s Teclas de filtragem ignoram os erros de digitação rápidos que o usuário comete inadvertidamente. Elas também determinam a taxa de repetição da tecla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a gui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Teclad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marque a caix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Usar as teclas de filtragem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 então clique no botão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a te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 das teclas de filtragem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Opções de filtragem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Ignorar teclas pressionadas rapidamente e diminuir a taxa de repetiçã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Em seguida, clique no botão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 avançada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a te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avançada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Teclas lenta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use a caix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As teclas têm que ser mantidas pressionadas por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para especificar o tempo que o usuário precisa segurar a tecla pressionada para que a digitação seja válida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Selecione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Diminuir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as taxas de repetição de teclado e defina o valor para o Intervalo de repetição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cc"/>
                </a:solidFill>
                <a:uFillTx/>
                <a:latin typeface="Verdana"/>
              </a:rPr>
              <a:t>OUTRAS OPÇÕES DE TECLADO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O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eclado virtual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é um teclado exibido na tela do computador. O usuário pode digitar no Teclado virtual usando um mouse, um trackball, um joystick, ou qualquer outro dispositivo ponteiro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Alguns desses teclados incluem os recursos de previsibilidade de palavras e expansão de abreviaturas. Esses recursos são utilizados para completar a palavra que está sendo digitada com um número menor de teclas digitadas, prevendo a palavra que será escrita ou buscando palavras/frases pré-armazenadas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No menu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Iniciar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, aponte para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odos os programas, Acessórios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,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Acessibilidade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e então selecione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eclado virtual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No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eclado virtual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e, em seguida,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Modo de digitação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. Na tela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Modo de digitação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Focalizar para selecionar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. Configure o campo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empo mínimo para focalizar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em 2,00 segundos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64296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cc"/>
                </a:solidFill>
                <a:uFillTx/>
                <a:latin typeface="Verdana"/>
              </a:rPr>
              <a:t>ETAPA 3. OPÇÕES DA GUIA SOM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Os alunos que são surdos ou têm dificuldade de audição talvez não percebam um som de advertência/erro. Eles podem perder o trabalho que realizaram no computador se ignorarem o erro/advertência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Selecione a guia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Som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. Selecione a opção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Usar o sinalizador de som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e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Usar o recurso para mostrar sons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. Quando ocorrer um erro, a tela piscará e legendas serão exibidas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cc"/>
                </a:solidFill>
                <a:uFillTx/>
                <a:latin typeface="Verdana"/>
              </a:rPr>
              <a:t>ETAPA 4. OPÇÕES DA GUIA VÍDEO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A personalização do Windows para os deficientes visuais inclui desde a alteração da intensidade de luz emitida pela tela - que pode gerar um brilho muito forte - até o uso da ferramenta lente de aumento para ampliar o que está sendo visto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cc"/>
                </a:solidFill>
                <a:latin typeface="Verdana"/>
              </a:rPr>
              <a:t>Configurações de alto contraste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Para alunos que apertam os olhos ao olhar a tela, o ideal é alterar o brilho da tela. O Alto Contraste é um recurso com o qual o usuário pode selecionar esquemas de cor de alto contraste a partir de uma lista com mais de 30 opções de combinação de cores. Os esquemas de cor incluem combinações de cores suaves ou vivas. Selecione uma combinação que atenda à necessidade ou preferência do usuário. Um dos esquemas de cor mais populares exibe o texto em verde ou branco sobre um fundo preto. 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Selecione a opção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Usar alto contraste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e, em seguida, clique no botão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. Dentro da lista Esquema de aparência de alto contraste, selecione Preto em alto contraste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49968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cc"/>
                </a:solidFill>
                <a:uFillTx/>
                <a:latin typeface="Verdana"/>
              </a:rPr>
              <a:t>Objetivo da atividade educacional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- Identificar oportunidades para que alunos com limitações mentais, visuais, auditivas ou motoras se beneficiem de uma interface personalizada do Window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- Utilizar o computador como ferramenta útil e capaz de dar suporte às deficiências de alunos especiai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- Aprender como utilizar o Painel de Controle, item Acessibilidades e subiten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OUTRAS OPÇÕES DE VÍDEO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cc"/>
                </a:solidFill>
                <a:latin typeface="Verdana"/>
              </a:rPr>
              <a:t>Alteração da resolução de tela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cc"/>
                </a:solidFill>
                <a:latin typeface="Verdana"/>
              </a:rPr>
              <a:t>     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Para alunos que colocam seu rosto próximo à tela, o motivo pode estar relacionado a um texto pequeno e difícil de enxergar. O usuário pode personalizar as propriedades de vídeo e resolução da tela.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No menu Iniciar, selecione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Painel de Controle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e, em seguida, clique em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Vídeo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Clique em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Na parte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Resolução de tela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selecione uma resolução de tela adequada, movendo a flecha deslizante da opção Resolução da tela na direção de Menos ou Mais.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cc"/>
                </a:solidFill>
                <a:latin typeface="Verdana"/>
              </a:rPr>
              <a:t>Aumento seletivo de itens específicos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Por meio da tela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Propriedades de vídeo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o usuário pode personalizar as cores e os tamanhos dos itens na tela, tais como menus e ícones. O usuário pode configurar o tamanho da fonte no menu para ampliá-la.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No menu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Iniciar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Painel de Controle,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selecione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Vídeo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na tela seguinte. Na guia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Aparência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clique no botão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Avançada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Na tela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Aparência avançada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no campo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Item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Menu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por exemplo.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Configure o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Tamanho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da fonte em </a:t>
            </a:r>
            <a:r>
              <a:rPr b="0" lang="ja-JP" sz="16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16</a:t>
            </a:r>
            <a:r>
              <a:rPr b="0" lang="ja-JP" sz="16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. O tamanho do menu está maior agora. Repita esse procedimento para todos os itens, ou selecione, FONTE GRANDE.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142560"/>
            <a:ext cx="822960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Uso da Lente de aumento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 Lente de aumento é um utilitário que mostra uma parte ampliada da tela em uma janela separada. Seu nível de ampliação varia de 1 a 16. A Lente de aumento também pode inverter as cores. A configuração pode determinar que a parte ampliada acompanhe o ponteiro do mouse ou o cursor de entrada de texto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o menu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Iniciar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aponte par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Todos os programas, Acessórios, Acessibilidad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, em seguida, selecione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Lente de aumento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É possível que seja exibida uma mensagem sobre a Lente de aumento. Para fechar a mensagem, clique em OK. Quando a Lente de aumento for aberta pela primeira vez, sua janela aparece no topo da tela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Quando o ponteiro do mouse vem para a borda inferior da janela d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Lente de aument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o ponteiro torna-se uma flecha de duas pontas. Mantenha o botão do mouse pressionado e arraste a janela d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Lente de aument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para redimensioná-la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O usuário pode arrastar a janela da Lente de aumento e alterar sua posição como se fosse uma janela comum. Quando a janela da Lente de aumento for reposicionada na parte inferior, superior ou lateral da tela, a janela da Lente de aumento se fixará ali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cc"/>
                </a:solidFill>
                <a:uFillTx/>
                <a:latin typeface="Verdana"/>
              </a:rPr>
              <a:t>ETAPA 5. OPÇÕES DA GUIA MOUSE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lguns alunos não conseguem usar o mouse devido à gravidade dos movimentos involuntários, mas ainda assim conseguem usar o teclado. Pode acontecer o contrário: é mais fácil usar o mouse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Configurações das Teclas para Mouse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O recurso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Teclas para Mous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permite ao usuário controlar o ponteiro do mouse usando um teclado numérico. </a:t>
            </a:r>
            <a:br>
              <a:rPr sz="1800"/>
            </a:b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Por exemplo, movê-lo o ponteiro do mouse para cima pressionado a tec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8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 movê-lo para baixo pressionando a tec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2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ndo que o a tec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5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é considerada o centro em termos de direção do ponteiro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Selecione a gui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Mous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 selecione a opção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Usar as teclas para mous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Clique no botão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a te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 das teclas para mous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Velocidade do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ponteiro, defina a velocidade do ponteiro movendo as setas deslizantes dos itens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Velocidade máxima e Aceleraçã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cc"/>
                </a:solidFill>
                <a:uFillTx/>
                <a:latin typeface="Verdana"/>
              </a:rPr>
              <a:t>OUTRAS OPÇÕES DE USO DO MOUSE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cc"/>
                </a:solidFill>
                <a:latin typeface="Verdana"/>
              </a:rPr>
              <a:t> </a:t>
            </a:r>
            <a:r>
              <a:rPr b="1" i="1" lang="pt-BR" sz="1600" spc="-1" strike="noStrike">
                <a:solidFill>
                  <a:srgbClr val="ffffcc"/>
                </a:solidFill>
                <a:latin typeface="Verdana"/>
              </a:rPr>
              <a:t>Ajuste da velocidade do ponteiro do mouse e opções de clique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Há alunos que têm dificuldade em mover ou clicar o mouse devido à sua paralisia ou ao seu tremor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 velocidade do ponteiro do mouse e as opções de clique podem ser personalizadas em Propriedades de Mouse. Uma velocidade mais baixa do ponteiro pode reduzir a influência de movimentos involuntários. Por outro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lado, uma velocidade mais alta de ponteiro é adequada para usuários portadores de Esclerose Lateral Amiotrófica ou distrofia muscular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01. No menu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Iniciar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Painel de Control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Mous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02. Selecione a gui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Opções do ponteir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Moviment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lecione uma velocidade de ponteiro movendo a seta deslizante do it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Selecione uma velocidade de ponteir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m direção às opções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Lenta ou Rápida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03. Na gui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Botõe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Velocidade do clique dupl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lecione uma velocidade de clique duplo movendo a seta deslizante do it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Velocidad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m direção às opções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Lenta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ou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Rápida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As configurações do mouse  estão concluídas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Projeto Original: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Este projeto foi baseado na atividade desenvolvida pela professora Zenaide Darossi (</a:t>
            </a:r>
            <a:r>
              <a:rPr b="0" lang="pt-BR" sz="2000" spc="-1" strike="noStrike" u="sng">
                <a:solidFill>
                  <a:srgbClr val="339933"/>
                </a:solidFill>
                <a:uFillTx/>
                <a:latin typeface="Verdana"/>
                <a:hlinkClick r:id="rId1"/>
              </a:rPr>
              <a:t>zenaide.darossi@univali.br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) do Colégio de Aplicação da UNIVALI - Tijucas – SC - </a:t>
            </a:r>
            <a:r>
              <a:rPr b="0" lang="pt-BR" sz="2000" spc="-1" strike="noStrike" u="sng">
                <a:solidFill>
                  <a:srgbClr val="339933"/>
                </a:solidFill>
                <a:uFillTx/>
                <a:latin typeface="Verdana"/>
                <a:hlinkClick r:id="rId2"/>
              </a:rPr>
              <a:t>www.univali.br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Referências bibliográficas: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9933"/>
                </a:solidFill>
                <a:uFillTx/>
                <a:latin typeface="Verdana"/>
                <a:hlinkClick r:id="rId3"/>
              </a:rPr>
              <a:t> http://www.microsoft.com/brasil/educacao/parceiro/acessibilidade.mspx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    </a:t>
            </a:r>
            <a:r>
              <a:rPr b="0" lang="pt-BR" sz="2000" spc="-1" strike="noStrike" u="sng">
                <a:solidFill>
                  <a:srgbClr val="ffffcc"/>
                </a:solidFill>
                <a:uFillTx/>
                <a:latin typeface="Verdana"/>
              </a:rPr>
              <a:t>http://www.bengalalegal.com/blog/?p=32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cc"/>
                </a:solidFill>
                <a:uFillTx/>
                <a:latin typeface="Verdana"/>
              </a:rPr>
              <a:t>Seguimento de ensino</a:t>
            </a: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Para todos os seguimentos do ensino, geralmente, as adaptações são as mesmas conforme a deficiência apresentada. 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As ferramentas da Web 2.0 utilizadas foram Windows,Word e PowerPoin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pt-BR" sz="3200" spc="-1" strike="noStrike" u="sng">
                <a:solidFill>
                  <a:srgbClr val="ffffcc"/>
                </a:solidFill>
                <a:uFillTx/>
                <a:latin typeface="Verdana"/>
              </a:rPr>
              <a:t>Material de apoio</a:t>
            </a: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http</a:t>
            </a:r>
            <a:r>
              <a:rPr b="0" lang="pt-BR" sz="3200" spc="-1" strike="noStrike" u="sng">
                <a:solidFill>
                  <a:srgbClr val="ffffcc"/>
                </a:solidFill>
                <a:uFillTx/>
                <a:latin typeface="Verdana"/>
              </a:rPr>
              <a:t>://extensao.cecierj.edu.br/saladeaula/file.php/95/Semana3/semana03_txtbase.htm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aracteristicas dos alunos para tal atividade: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Deficiências Físicas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lunos com deficiência física possuem dificuldades motoras ao usar o computador, pois suas paralisias os tornam 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incapazes de se mover da mesma maneira que pensam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Uma postura desequilibrada ou casos de amputação os tornam 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incapazes de alcançar o teclado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 tremores ou outros movimentos involuntários geram 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movimento corporal não-intencional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Deficiência Visual ou Auditiva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pesar de os alunos com deficiência visual ou auditiva poderem mover suas mãos e dedos como quiserem, eles têm dificuldades ao usar o computador, especialmente para entender o movimento rápido do que está se passando na tela do computador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s deficiências visuais incluem baixa visão ou cegueira. O uso de fontes e ícones grandes e o ajuste das cores da tela geralmente são recursos úteis. Os computadores emitem sons para atrair a atenção do usuário quando, por exemplo, apresentam uma mensagem de erro/advertência. No entanto, se o usuário não ouvir esse som, talvez ele não perceba o erro e fique confuso sem saber se o computador está funcionando ou não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64296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Deficiências Intelectuais, Autismo ou Distúrbios de aprendizagem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Para alguns alunos pode ser muito difícil se manterem atentos ao tempo de processamento dos computadores, que pode 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demorar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para executar algumas funções, ou mesmo oferece muitas opções de acesso no qual o aluno fica confuso por qual caminho seguir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Para estas dificuldades de concentração ou rapidez ao realizar as atividades, podemos configurar o computador para liberar alertas sonoros ou mesmo restringir o acesso há alguns itens por meio de senhas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Mesmo quando os alunos conseguem usar o teclado ou o mouse, eles podem precisar de mais tempo e esforço para concluir a tarefa. Nesse caso, o uso do computador pode ser muito difícil e diminuir sua motivação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Existem diversos recursos que podem auxiliá-los a realizarem tarefas consideradas difíceis como, por exemplo, fazer a combinação de duas teclas para realizar uma letra maiúscula, ou mesmo, pressionar uma tecla rapidamente de cada vez. Veremos mais adiante como configurar o computador nestes casos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214200" y="92844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800" spc="-1" strike="noStrike" u="sng">
                <a:solidFill>
                  <a:srgbClr val="ffffcc"/>
                </a:solidFill>
                <a:uFillTx/>
                <a:latin typeface="Verdana"/>
              </a:rPr>
              <a:t>Forma de avaliação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:Não existe necessidade de avaliação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pt-BR" sz="2800" spc="-1" strike="noStrike" u="sng">
                <a:solidFill>
                  <a:srgbClr val="ffffcc"/>
                </a:solidFill>
                <a:uFillTx/>
                <a:latin typeface="Verdana"/>
              </a:rPr>
              <a:t>Cronogram</a:t>
            </a:r>
            <a:r>
              <a:rPr b="0" lang="pt-BR" sz="2800" spc="-1" strike="noStrike" u="sng">
                <a:solidFill>
                  <a:srgbClr val="ffffcc"/>
                </a:solidFill>
                <a:uFillTx/>
                <a:latin typeface="Verdana"/>
              </a:rPr>
              <a:t>a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Não precisa seguir, o professor pode lançar mão dessas ferramentas da web 2.0, é uma forma de incentivar e exercer a inclusão. O projeto pode ser usado durante todo período letivo. 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pt-BR" sz="3200" spc="-1" strike="noStrike" u="sng">
                <a:solidFill>
                  <a:srgbClr val="ffffcc"/>
                </a:solidFill>
                <a:uFillTx/>
                <a:latin typeface="Verdana"/>
              </a:rPr>
              <a:t> </a:t>
            </a:r>
            <a:r>
              <a:rPr b="0" lang="pt-BR" sz="2800" spc="-1" strike="noStrike" u="sng">
                <a:solidFill>
                  <a:srgbClr val="ffffcc"/>
                </a:solidFill>
                <a:uFillTx/>
                <a:latin typeface="Verdana"/>
              </a:rPr>
              <a:t>Metodologia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: o primeiro passo é realizar um levantamento das dificuldades dos seus alunos. Assim você poderá escolher a melhor forma de personalizar o computador o qual ele utilizará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Para tomar o seu conhecimento muito mais prático, coloque-se em uma posição em que tenha que enfrentar as dificuldades a serem ensinadas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71424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EXERCÍCIO 01: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loque na boca um palitinho de comida japonesa, ligue o computador, abra o Word, digite (com o palitinho) </a:t>
            </a:r>
            <a:r>
              <a:rPr b="0" lang="ja-JP" sz="24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Eu amo o Paulo</a:t>
            </a:r>
            <a:r>
              <a:rPr b="0" lang="ja-JP" sz="24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e salve o documento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i="1" lang="pt-BR" sz="2400" spc="-1" strike="noStrike">
                <a:solidFill>
                  <a:srgbClr val="ffffcc"/>
                </a:solidFill>
                <a:latin typeface="Verdana"/>
              </a:rPr>
              <a:t>Barreiras a serem superada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ligar o computador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abrir o Word sem usar o mouse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digitar as letras E e P maiúsculas no texto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salvar o documento sem usar o mouse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7:35:29Z</dcterms:created>
  <dc:creator>Fabio</dc:creator>
  <dc:description/>
  <dc:language>en-US</dc:language>
  <cp:lastModifiedBy>Rita Brito</cp:lastModifiedBy>
  <dcterms:modified xsi:type="dcterms:W3CDTF">2013-02-22T22:22:44Z</dcterms:modified>
  <cp:revision>27</cp:revision>
  <dc:subject/>
  <dc:title>Jornal do Tempo Santo André - SP</dc:title>
</cp:coreProperties>
</file>